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A2EA-19E1-4949-A064-8F4DBD322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B74A-70F6-4489-B838-735F90F9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8DEC-D25D-47B6-9842-42EE24EE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D65D-3D06-4F54-BF00-C818F65B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3324-B6CA-4D6A-A340-6FE2FF02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6DCA-F3FC-4F97-B72E-3F834D7A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00D-01AF-4E81-8B64-1D4D9A4D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770-3D09-4C4F-BB47-FE2A0195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E1C-ED39-4467-BEEB-B89CB0F6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A6A-BB1F-46AE-8267-E8BBFBD8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0F59-310F-4726-A520-183F9D71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32EF-7914-48DE-B4EF-D34D751C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AE1A-EFC5-465A-9A2A-EA5DF6230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SP3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view of the  Discip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anthrosocphyc"/>
          <p:cNvPicPr/>
          <p:nvPr/>
        </p:nvPicPr>
        <p:blipFill>
          <a:blip r:embed="rId1"/>
          <a:stretch/>
        </p:blipFill>
        <p:spPr>
          <a:xfrm>
            <a:off x="3809880" y="2057400"/>
            <a:ext cx="14511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sychological Expla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ologists would examine his life in detail in order to answ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factors in h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lity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ed Lebrun to commit this cr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0" y="4419720"/>
            <a:ext cx="2971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sychological Expla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personality is moulded by a combination of  biological factors as well as prior exper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brun had made 50 visits to doctors complaining of stomach cramps, insomnia, depression, diarrhea and other ail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had suffered from de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had been bullied at work for a speech imped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ociological Expla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ologists would be interested in answe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common sociologic factors are there in the lives of people who have gone on shooting sprees at their former place of 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Rectangle 3" descr=""/>
          <p:cNvPicPr/>
          <p:nvPr/>
        </p:nvPicPr>
        <p:blipFill>
          <a:blip r:embed="rId1"/>
          <a:stretch/>
        </p:blipFill>
        <p:spPr>
          <a:xfrm>
            <a:off x="4952880" y="2606760"/>
            <a:ext cx="350532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ociological Expla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mon characteristi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people who have gone on shooting rampage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unpopular lo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low tolerance for frustration and 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harassed a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low self-este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own/possess rifles and other g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Rectangl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nthropological Expla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hropologists would be interested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were the values of the culture in which he grew up &amp; later work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76720" y="3733920"/>
            <a:ext cx="28954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nthropological Expla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ption is that there are factors in Canadian culture and the “subculture” of OC Transpo that encouraged Lebrun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ful images of violence are widespread in today’s Canadian culture (sports, media, video g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Rectangle 3" descr=""/>
          <p:cNvPicPr/>
          <p:nvPr/>
        </p:nvPicPr>
        <p:blipFill>
          <a:blip r:embed="rId1"/>
          <a:stretch/>
        </p:blipFill>
        <p:spPr>
          <a:xfrm>
            <a:off x="5259240" y="1981080"/>
            <a:ext cx="2587680" cy="19814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3" descr=""/>
          <p:cNvPicPr/>
          <p:nvPr/>
        </p:nvPicPr>
        <p:blipFill>
          <a:blip r:embed="rId2"/>
          <a:stretch/>
        </p:blipFill>
        <p:spPr>
          <a:xfrm>
            <a:off x="5257800" y="4114800"/>
            <a:ext cx="2590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nthropological Expla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 at the OC Transpo inquest revealed a poisonous environment, characterized by hostility and agg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as little respect between managers and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ho” behaviour  was reported with much talk about women and teasing Lebrun for his stu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ight an anthroplogist, psychologist and sociologist, explain the following inciden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oup of thugs attack and injure two men they see coming out of a gay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urch group sponsors a refugee family from a war-torn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adian peacekeeping troops put their lives at risk in a foreign country, where a civil war may break out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cer fans overseas riot and get in fist fights with opposing fans after a World Cup qualifying ga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581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ocial Scienc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hropology – the study or the origin, the behaviour, the physical, social, and cultural development of hu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anthropology"/>
          <p:cNvPicPr/>
          <p:nvPr/>
        </p:nvPicPr>
        <p:blipFill>
          <a:blip r:embed="rId1"/>
          <a:stretch/>
        </p:blipFill>
        <p:spPr>
          <a:xfrm>
            <a:off x="4648320" y="2998800"/>
            <a:ext cx="38098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ocial Scienc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ology – the study of human social behaviour and the institutions and organizations that form society; the study of how groups of people who share common characteristics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sociology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ocial Scienc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ychology – the study of mental processes and human behavi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Psychology4a"/>
          <p:cNvPicPr/>
          <p:nvPr/>
        </p:nvPicPr>
        <p:blipFill>
          <a:blip r:embed="rId1"/>
          <a:stretch/>
        </p:blipFill>
        <p:spPr>
          <a:xfrm>
            <a:off x="4943520" y="1981080"/>
            <a:ext cx="3217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ntreal Assa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text (p.4) for specific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ntreal Assaul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thropologi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uld as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id the environment influence the decisions of the people involved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violent experiences had there been in this commun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cultural factors have influenced decis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76800" y="0"/>
            <a:ext cx="306720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ntreal Assa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sychologi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uld as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id people not call for help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id they obey their supervis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factors led the girl to this loc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Montreal Assa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ciolog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uld ask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factors influenced the decisions of the supervisor, the employees who did not respond, and the employee who did make the 911 ca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ere the ethnic or cultural backgrounds of the employees, supervisor, and girl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re there any factors, such as gender, race, age, or economic status, that might have influenced the assumptions of the supervisor and employe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0574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C Transpo Ki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he handout of the 1999 OC Transpo murd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roups of 2 explain what main question each discipline would ask to help understand this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their explanation based on the information presented in the hand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Rectangle 3" descr=""/>
          <p:cNvPicPr/>
          <p:nvPr/>
        </p:nvPicPr>
        <p:blipFill>
          <a:blip r:embed="rId1"/>
          <a:stretch/>
        </p:blipFill>
        <p:spPr>
          <a:xfrm>
            <a:off x="5791320" y="3048120"/>
            <a:ext cx="2666880" cy="25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02:13:56Z</dcterms:created>
  <dc:creator>Mark Harris</dc:creator>
  <dc:description/>
  <dc:language>en-US</dc:language>
  <cp:lastModifiedBy>OCDSB User</cp:lastModifiedBy>
  <dcterms:modified xsi:type="dcterms:W3CDTF">2013-01-07T18:19:02Z</dcterms:modified>
  <cp:revision>49</cp:revision>
  <dc:subject/>
  <dc:title>HSP3M Unit 1</dc:title>
</cp:coreProperties>
</file>